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58A9-F9F6-4B00-96F8-FBE1AD00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AEE-DC84-44BA-A43E-B96AAFD0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1457-99F2-4E10-8052-0F95997F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128-EC86-4AC5-B250-A9CC7E8C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057B-A3D4-4B58-84A6-BEB9383E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A81-9F78-4374-8AFB-57CFF3E4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A919-BBED-4A19-8774-99E39E4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C358-7554-4B47-BDAF-9EBE15E7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75A-890B-49AC-AE6F-0F011F2A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E049-ABBF-4A55-BA79-4C81694A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1B08-F049-44B8-B5F9-08111E8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5AA-E1F1-4473-9CA9-ED8084B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6379-D384-449C-9DDA-7777DCF1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71E1-F2EA-4377-BE72-FC28DA5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5B33-A19A-4B1E-8609-72A38373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68AB-2689-4AC7-B772-D5F79DBB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AAEC-D007-4662-AC6B-3E837ABA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7CB-CA1D-4340-BDEF-2DDD582A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4D2-F09E-4B0D-A9B3-F48F3E3E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717-2D21-4382-A235-CD164E5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6AD-E23C-43BD-ADB2-ADFCFBEF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62E-FAB2-4AC2-A9CE-8442487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836-4540-45D8-A03B-D1B8BC3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EA8-03BD-44F7-8BA1-34B828C5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193A-3D0A-4FB8-A1E0-1A956C25F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44D8-ED72-4E89-89D7-2959EA580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 Fi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nd the name of the mayor of the Hills Shire Counci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name of the General manager of the Hills Shire Counc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year Hills Shire Council area was form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was the first police station in the 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s many current councillors as you c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as many suburbs in the Hills Shire Council as you c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important points on the Battle of Vinegar H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lls Shire Counc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ree important public services that the Hills Shire Council off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2:46:06Z</dcterms:created>
  <dc:creator>CEO</dc:creator>
  <dc:description/>
  <dc:language>en-US</dc:language>
  <cp:lastModifiedBy>CEO</cp:lastModifiedBy>
  <dcterms:modified xsi:type="dcterms:W3CDTF">2011-02-23T03:16:25Z</dcterms:modified>
  <cp:revision>2</cp:revision>
  <dc:subject/>
  <dc:title>Hills Shire Council</dc:title>
</cp:coreProperties>
</file>